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EA03-ADE3-496E-8944-C6FFEF2930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«Как появились фамилии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Ученика 3 – Б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МСОШ №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г. Нижневартов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Хорева Влади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Руководите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Карапетян Светлана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B09D-A342-4716-BB9B-27771573F3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По мнению учёных, русские фамилии можно разделить на 5 основных гру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религии, по именам святых, указанных в Библии – самой главной книге христи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Пётр - Петров, Николай - Николае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6D78-28C2-4F5C-BAFC-1255D6D76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Фамилии, образованные под влиянием традиций и культур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мирское имя». Это прозвища и слова – обере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Дуб – Дубинин, Заяц – Зайце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548E-B041-4E29-A776-A6D4CC1C5C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Фамилии, образованные от профессии. Отсюда Гончаровы,  Сапожниковы, Кузнецовы и Ткачё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79DA-2E47-4A8B-B877-19A2C21786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Фамилии, образованные от названия местности, откуда были родом предки (основой таких фамилий становились разные географические названия - городов, деревень, рек, озер): Мещеряков,  Новгородцев, Москвитин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617B-2238-4539-9B36-3EE6186B4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Фамилии, которые себе взяли высшие служители церкви. Так появились Рождественские (в честь Рождества), Троиц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(в честь святой Троицы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B841-B2E6-4773-A135-6FA4C2C30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A864-F4A2-4311-ADC5-D15E35849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НОВАЯ  ГИПОТЕЗА:</a:t>
            </a:r>
            <a:r>
              <a:rPr b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8000"/>
                </a:solidFill>
                <a:uFillTx/>
                <a:latin typeface="Arial"/>
              </a:rPr>
              <a:t>ХОР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Фамилия «Хорев» вся входит в корень сло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которое может быть взято из другого языка</a:t>
            </a:r>
            <a:r>
              <a:rPr b="1" lang="ru-RU" sz="12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E161-2B04-449E-9586-9125D30E5C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озможное сло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сточник м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фамилии Хорев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это втор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и более древ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звание свящ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для христиан г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Arial"/>
              </a:rPr>
              <a:t>Синай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Гора находи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в Израиле.</a:t>
            </a:r>
            <a:r>
              <a:rPr b="0" lang="ru-RU" sz="1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155D-CC3C-4B27-8BFD-62C8853594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45CD-4EA2-4C83-9C25-95096FE724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Израиля всегда были торгов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ьми и путешествен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10 ве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ни торговали с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роп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зией, Инд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это время уже прошло Крещ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и князем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миром Святославич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сские люди не знали географию, но знали Библию и гору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Хоре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Чьи вы будете?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шественн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вуч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гордостью ответ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«Хоревы мы будем»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корей все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едения торговли, кто -  то из путешествен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орговцев долго не уезжал на свою родин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потом так и остался на Рус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01DE-89CD-4BCD-A0B4-76021E25E0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Це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становить, как и почему появилась фамилия «Хоре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когда и почему появились фамилии, какие факторы повлияли на этот проц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какие правила русского языка использовались при образовании фамил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знать,  как на процесс образования фамилий повлияли культура, религия и территория проживания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C42E-6539-496C-B863-5610D3CEB5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ЧУ ЗНАТЬ, КАК ПОЯВИЛИС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2A5E-2C71-431D-A7AC-426C1D71E3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4F7E-7827-4F8E-951B-F0AC66D44E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79D3-3E50-40BB-A49E-3B61A3109B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ГИПОТЕЗ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милия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ев» произошла от слова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–ёк»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ая часть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хор–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АНТРОПОНИ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«антропо–» – «человек» + «онима–» – «имя»</a:t>
            </a:r>
            <a:r>
              <a:rPr b="0" lang="ru-RU" sz="1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EDEB-C52E-4F0D-AE12-965EF15DAF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Слово «фамилия» – латинского происхождения. У древних римлян оно относилось не к супругам и детям, а только к рабам. </a:t>
            </a:r>
            <a:r>
              <a:rPr b="1" lang="ru-RU" sz="1400" spc="-1" strike="noStrike" u="sng">
                <a:solidFill>
                  <a:srgbClr val="009900"/>
                </a:solidFill>
                <a:uFillTx/>
                <a:latin typeface="Arial"/>
              </a:rPr>
              <a:t>«Familia»</a:t>
            </a:r>
            <a:r>
              <a:rPr b="1" lang="ru-RU" sz="1200" spc="-1" strike="noStrike">
                <a:solidFill>
                  <a:srgbClr val="009900"/>
                </a:solidFill>
                <a:latin typeface="Arial"/>
              </a:rPr>
              <a:t> – это принадлежащие одному человеку раб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7DE9-A58B-40C9-9853-3127D51A3F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9900"/>
                </a:solidFill>
                <a:uFillTx/>
                <a:latin typeface="Arial"/>
              </a:rPr>
              <a:t>«наследственное семейное именование, прибавляемое к личному имени»</a:t>
            </a:r>
            <a:r>
              <a:rPr b="0" lang="ru-RU" sz="1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08CE-79AC-4221-B70A-B943D8C94F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ПОЯВЛЕНИЕ ФАМИЛИЙ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до 13 века – прозвища, ремесло, отчество, дед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0" lang="ru-RU" sz="1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990099"/>
                </a:solidFill>
                <a:uFillTx/>
                <a:latin typeface="Arial"/>
              </a:rPr>
              <a:t>13 век – первые фамилии в Великом Новгороде</a:t>
            </a:r>
            <a:r>
              <a:rPr b="0" lang="ru-RU" sz="11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99"/>
                </a:solidFill>
                <a:uFillTx/>
                <a:latin typeface="Arial"/>
              </a:rPr>
              <a:t>19 век – массовое появление фамил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26BB-94BE-4505-A4A7-09BBEE6DF1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Чей? Чьи вы буд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Михаи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Михай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99cc00"/>
                </a:solidFill>
                <a:uFillTx/>
                <a:latin typeface="Arial"/>
              </a:rPr>
              <a:t>т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й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1200" spc="-1" strike="noStrike" u="sng">
                <a:solidFill>
                  <a:srgbClr val="99cc00"/>
                </a:solidFill>
                <a:uFillTx/>
                <a:latin typeface="Arial"/>
              </a:rPr>
              <a:t>ть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Зая</a:t>
            </a:r>
            <a:r>
              <a:rPr b="1" lang="ru-RU" sz="1200" spc="-1" strike="noStrike" u="sng">
                <a:solidFill>
                  <a:srgbClr val="0099ff"/>
                </a:solidFill>
                <a:uFillTx/>
                <a:latin typeface="Arial"/>
              </a:rPr>
              <a:t>ц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 - За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а -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8457-AE2F-465B-908B-69852D67A8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ДИАЛ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3300"/>
                </a:solidFill>
                <a:uFillTx/>
                <a:latin typeface="Arial"/>
              </a:rPr>
              <a:t>это разновидность языка, которая употребляется как средство общения между людьми, связанными между собой одной территори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71B2-2742-4169-9742-8D3183776E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6FD-EC33-4C9C-BE7D-F0387ED6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F849-C507-454A-9BF4-3A99DF39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047-723C-4427-88BB-FA0B9F0C0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360-C038-4505-AB6A-0086BA51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AFE-26B7-4BE7-A6C6-BC762858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C85-74DB-49AD-8AA9-3F29BCB6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176-63AC-421F-AD6A-46EAAB81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A93-0527-4554-A807-4673CA2C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C85-9BF0-4FE8-B31B-FC220817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BB2-70C0-4556-9E72-9EECAFD1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D01-E865-4BBC-8CC0-62B21414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D4B-9EA5-4514-A008-35D968A9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1A4B-E5A2-4C24-AD24-3EFFC5471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«Как появились фамилии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00360" y="3885840"/>
            <a:ext cx="43923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Ученика 3 – 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СОШ №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г. Нижневарт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орева Влади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Карапетян Светлана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333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ПРОЕК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для заставки"/>
          <p:cNvPicPr/>
          <p:nvPr/>
        </p:nvPicPr>
        <p:blipFill>
          <a:blip r:embed="rId2"/>
          <a:stretch/>
        </p:blipFill>
        <p:spPr>
          <a:xfrm>
            <a:off x="0" y="3970440"/>
            <a:ext cx="3849840" cy="28875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0" y="0"/>
            <a:ext cx="91440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3300"/>
                </a:solidFill>
                <a:uFillTx/>
                <a:latin typeface="Arial"/>
              </a:rPr>
              <a:t>По мнению учёных, русские фамилии можно разделить на 5 основных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1268280"/>
            <a:ext cx="91440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религии, по именам святых, указанных в Библии – самой главной книге христи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Пётр - Петров, Николай - Николае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поп"/>
          <p:cNvPicPr/>
          <p:nvPr/>
        </p:nvPicPr>
        <p:blipFill>
          <a:blip r:embed="rId2"/>
          <a:stretch/>
        </p:blipFill>
        <p:spPr>
          <a:xfrm>
            <a:off x="1908000" y="3716280"/>
            <a:ext cx="4319640" cy="25210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0" y="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амилии, образованные под влиянием традиций и культуры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мирское имя». Это прозвища и слова – обере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Например: Дуб – Дубинин, Заяц – Зайц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заяц"/>
          <p:cNvPicPr/>
          <p:nvPr/>
        </p:nvPicPr>
        <p:blipFill>
          <a:blip r:embed="rId2"/>
          <a:stretch/>
        </p:blipFill>
        <p:spPr>
          <a:xfrm>
            <a:off x="468360" y="2781360"/>
            <a:ext cx="3120840" cy="277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дуб"/>
          <p:cNvPicPr/>
          <p:nvPr/>
        </p:nvPicPr>
        <p:blipFill>
          <a:blip r:embed="rId3"/>
          <a:stretch/>
        </p:blipFill>
        <p:spPr>
          <a:xfrm>
            <a:off x="4427640" y="2781360"/>
            <a:ext cx="3743280" cy="2665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3. Фамилии, образованные от профессии. Отсюда Гончаровы,  Сапожниковы, Кузнецовы и Ткачё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гончар 1"/>
          <p:cNvPicPr/>
          <p:nvPr/>
        </p:nvPicPr>
        <p:blipFill>
          <a:blip r:embed="rId2"/>
          <a:stretch/>
        </p:blipFill>
        <p:spPr>
          <a:xfrm>
            <a:off x="0" y="2276640"/>
            <a:ext cx="3095640" cy="458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сапожник"/>
          <p:cNvPicPr/>
          <p:nvPr/>
        </p:nvPicPr>
        <p:blipFill>
          <a:blip r:embed="rId3"/>
          <a:stretch/>
        </p:blipFill>
        <p:spPr>
          <a:xfrm>
            <a:off x="3708360" y="1052640"/>
            <a:ext cx="5195880" cy="3889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4. Фамилии, образованные от названия местности, откуда были родом предки (основой таких фамилий становились разные географические названия - городов, деревень, рек, озер): Мещеряков,  Новгородцев, Москвити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россия"/>
          <p:cNvPicPr/>
          <p:nvPr/>
        </p:nvPicPr>
        <p:blipFill>
          <a:blip r:embed="rId2"/>
          <a:stretch/>
        </p:blipFill>
        <p:spPr>
          <a:xfrm>
            <a:off x="755640" y="1700280"/>
            <a:ext cx="7524720" cy="4448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0" y="0"/>
            <a:ext cx="9144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5. Фамилии, которые себе взяли высшие служители церкви. Так появились Рождественские (в честь Рождества), Троиц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(в честь святой Троицы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пасха"/>
          <p:cNvPicPr/>
          <p:nvPr/>
        </p:nvPicPr>
        <p:blipFill>
          <a:blip r:embed="rId2"/>
          <a:stretch/>
        </p:blipFill>
        <p:spPr>
          <a:xfrm>
            <a:off x="1979640" y="1989000"/>
            <a:ext cx="5184720" cy="3600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6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1258920" y="1916280"/>
            <a:ext cx="2376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</a:t>
            </a:r>
            <a:r>
              <a:rPr b="1" lang="ru-RU" sz="3600" spc="-1" strike="noStrike" u="sng">
                <a:solidFill>
                  <a:srgbClr val="99cc00"/>
                </a:solidFill>
                <a:uFillTx/>
                <a:latin typeface="Arial"/>
              </a:rPr>
              <a:t>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3564000" y="2276640"/>
            <a:ext cx="2303280" cy="727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564000" y="2781360"/>
            <a:ext cx="2303280" cy="7920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908000" y="1268280"/>
            <a:ext cx="525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6156360" y="285264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ЬКО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6156360" y="162864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ЬЕ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5"/>
          <p:cNvSpPr/>
          <p:nvPr/>
        </p:nvSpPr>
        <p:spPr>
          <a:xfrm flipH="1">
            <a:off x="1834560" y="198900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6"/>
          <p:cNvSpPr/>
          <p:nvPr/>
        </p:nvSpPr>
        <p:spPr>
          <a:xfrm flipH="1">
            <a:off x="6227640" y="1700280"/>
            <a:ext cx="115272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7"/>
          <p:cNvSpPr/>
          <p:nvPr/>
        </p:nvSpPr>
        <p:spPr>
          <a:xfrm flipH="1">
            <a:off x="6155640" y="285264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8"/>
          <p:cNvSpPr/>
          <p:nvPr/>
        </p:nvSpPr>
        <p:spPr>
          <a:xfrm>
            <a:off x="179280" y="5157720"/>
            <a:ext cx="9144000" cy="60984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!!! ГИПОТЕЗА НЕ ПОДТВЕРДИЛАСЬ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НОВАЯ  ГИПОТЕ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556000" y="1700280"/>
            <a:ext cx="4392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Arial"/>
              </a:rPr>
              <a:t>ХОР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10"/>
          <p:cNvSpPr/>
          <p:nvPr/>
        </p:nvSpPr>
        <p:spPr>
          <a:xfrm flipH="1">
            <a:off x="3923640" y="1773360"/>
            <a:ext cx="158436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179280" y="2997360"/>
            <a:ext cx="8820360" cy="2303280"/>
          </a:xfrm>
          <a:prstGeom prst="upArrowCallout">
            <a:avLst>
              <a:gd name="adj1" fmla="val -72094"/>
              <a:gd name="adj2" fmla="val 95737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Фамилия «Хорев» вся входит в корень сло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ff"/>
                </a:solidFill>
                <a:uFillTx/>
                <a:latin typeface="Arial"/>
              </a:rPr>
              <a:t>которое может быть взято из другого языка</a:t>
            </a:r>
            <a:r>
              <a:rPr b="1" lang="ru-RU" sz="2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ОВЕРКА  ГИПОТЕ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Гора Хорев"/>
          <p:cNvPicPr/>
          <p:nvPr/>
        </p:nvPicPr>
        <p:blipFill>
          <a:blip r:embed="rId2"/>
          <a:stretch/>
        </p:blipFill>
        <p:spPr>
          <a:xfrm>
            <a:off x="1332000" y="2276640"/>
            <a:ext cx="3348000" cy="43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Карта с горой Хорев"/>
          <p:cNvPicPr/>
          <p:nvPr/>
        </p:nvPicPr>
        <p:blipFill>
          <a:blip r:embed="rId3"/>
          <a:stretch/>
        </p:blipFill>
        <p:spPr>
          <a:xfrm>
            <a:off x="179280" y="981000"/>
            <a:ext cx="1524240" cy="21528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5651640" y="1557360"/>
            <a:ext cx="3097080" cy="48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озможное слов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сточник м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фамилии Хоре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то втор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 более древ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звание свящ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ля христиан г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Синай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ора наход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Израиле.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РОВЕРКА ГИПОТЕ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1258920" y="1916280"/>
            <a:ext cx="237636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V="1">
            <a:off x="3708360" y="2491920"/>
            <a:ext cx="2303640" cy="730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1908000" y="1268280"/>
            <a:ext cx="525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Arial"/>
              </a:rPr>
              <a:t>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6156360" y="1989000"/>
            <a:ext cx="237636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ХОРЕ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10"/>
          <p:cNvSpPr/>
          <p:nvPr/>
        </p:nvSpPr>
        <p:spPr>
          <a:xfrm flipH="1">
            <a:off x="1834560" y="1989000"/>
            <a:ext cx="1152360" cy="30024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1"/>
          <p:cNvSpPr/>
          <p:nvPr/>
        </p:nvSpPr>
        <p:spPr>
          <a:xfrm flipH="1">
            <a:off x="6516000" y="2060640"/>
            <a:ext cx="1152360" cy="29988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324000" y="624852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!!! ГИПОТЕЗА ПОДТВЕРДИЛАСЬ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5" descr="ярмарка"/>
          <p:cNvPicPr/>
          <p:nvPr/>
        </p:nvPicPr>
        <p:blipFill>
          <a:blip r:embed="rId2"/>
          <a:stretch/>
        </p:blipFill>
        <p:spPr>
          <a:xfrm>
            <a:off x="2700360" y="3213000"/>
            <a:ext cx="4176720" cy="28800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0" y="1125360"/>
            <a:ext cx="9144000" cy="5732640"/>
          </a:xfrm>
          <a:custGeom>
            <a:avLst/>
            <a:gdLst>
              <a:gd name="textAreaLeft" fmla="*/ 2087280 w 9144000"/>
              <a:gd name="textAreaRight" fmla="*/ 7056720 w 9144000"/>
              <a:gd name="textAreaTop" fmla="*/ 1308600 h 5732640"/>
              <a:gd name="textAreaBottom" fmla="*/ 4424040 h 5732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тели Израиля всегда были торгов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ьми и путешествен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10 ве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и торговали 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вроп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зией, Инд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это время уже прошло Кре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и князем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миром Святославич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сские люди не знали географию, но знали Библию и гору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Хор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опр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Чьи вы будете?»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ешественник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ч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гордостью 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«Хоревы мы будем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корей все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едения торговли, кто -  то из путешествен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орговцев долго не уезжал на свою род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том так и остался на Ру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0" y="333360"/>
            <a:ext cx="914400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Цель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становить, как и почему появилась фамилия «Хоре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когда и почему появились фамилии, какие факторы повлияли на этот проце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какие правила русского языка использовались при образовании фамил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знать,  как на процесс образования фамилий повлияли культура, религия и территория прожива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3"/>
          <p:cNvSpPr/>
          <p:nvPr/>
        </p:nvSpPr>
        <p:spPr>
          <a:xfrm>
            <a:off x="0" y="333360"/>
            <a:ext cx="9144000" cy="609480"/>
          </a:xfrm>
          <a:custGeom>
            <a:avLst/>
            <a:gdLst>
              <a:gd name="textAreaLeft" fmla="*/ 1368000 w 9144000"/>
              <a:gd name="textAreaRight" fmla="*/ 7776000 w 914400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57" y="0"/>
                </a:lnTo>
                <a:arcTo wR="675" hR="675" stAng="16200000" swAng="5400000"/>
                <a:lnTo>
                  <a:pt x="5932" y="2700"/>
                </a:lnTo>
                <a:lnTo>
                  <a:pt x="15668" y="2700"/>
                </a:lnTo>
                <a:lnTo>
                  <a:pt x="1566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368" y="18900"/>
                </a:lnTo>
                <a:lnTo>
                  <a:pt x="18368" y="20925"/>
                </a:lnTo>
                <a:arcTo wR="675" hR="675" stAng="0" swAng="5400000"/>
                <a:lnTo>
                  <a:pt x="3907" y="21600"/>
                </a:lnTo>
                <a:arcTo wR="675" hR="675" stAng="5400000" swAng="5400000"/>
                <a:lnTo>
                  <a:pt x="323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932" y="675"/>
                </a:moveTo>
                <a:arcTo wR="675" hR="675" stAng="0" swAng="5400000"/>
                <a:lnTo>
                  <a:pt x="3907" y="1350"/>
                </a:lnTo>
                <a:arcTo wR="675" hR="675" stAng="16200000" swAng="-5400000"/>
                <a:arcTo wR="675" hR="675" stAng="10800000" swAng="-5400000"/>
                <a:lnTo>
                  <a:pt x="5932" y="2700"/>
                </a:lnTo>
              </a:path>
              <a:path fill="none" w="21600" h="21600">
                <a:moveTo>
                  <a:pt x="15668" y="675"/>
                </a:moveTo>
                <a:arcTo wR="675" hR="675" stAng="10800000" swAng="-5400000"/>
                <a:lnTo>
                  <a:pt x="17693" y="1350"/>
                </a:lnTo>
                <a:arcTo wR="675" hR="675" stAng="16200000" swAng="5400000"/>
                <a:arcTo wR="675" hR="675" stAng="0" swAng="5400000"/>
                <a:lnTo>
                  <a:pt x="15668" y="2700"/>
                </a:lnTo>
              </a:path>
              <a:path fill="none" w="21600" h="21600">
                <a:moveTo>
                  <a:pt x="3232" y="2025"/>
                </a:moveTo>
                <a:lnTo>
                  <a:pt x="3232" y="18900"/>
                </a:lnTo>
              </a:path>
              <a:path fill="none" w="21600" h="21600">
                <a:moveTo>
                  <a:pt x="18368" y="2025"/>
                </a:moveTo>
                <a:lnTo>
                  <a:pt x="18368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ЕРСПЕКТИ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aptop"/>
          <p:cNvSpPr/>
          <p:nvPr/>
        </p:nvSpPr>
        <p:spPr>
          <a:xfrm>
            <a:off x="1332000" y="1557360"/>
            <a:ext cx="6480000" cy="4896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ЧУ ЗНАТЬ, КАК ПОЯВИЛИС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для заставки 1"/>
          <p:cNvPicPr/>
          <p:nvPr/>
        </p:nvPicPr>
        <p:blipFill>
          <a:blip r:embed="rId2"/>
          <a:stretch/>
        </p:blipFill>
        <p:spPr>
          <a:xfrm>
            <a:off x="684360" y="333360"/>
            <a:ext cx="8208720" cy="6254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-39672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СПАСИБ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ВНИМАНИ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333360"/>
            <a:ext cx="914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ГИПОТЕЗ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милия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в» произошла от слова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ёк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ая часть 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р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зверек"/>
          <p:cNvPicPr/>
          <p:nvPr/>
        </p:nvPicPr>
        <p:blipFill>
          <a:blip r:embed="rId2"/>
          <a:stretch/>
        </p:blipFill>
        <p:spPr>
          <a:xfrm>
            <a:off x="7020000" y="3213000"/>
            <a:ext cx="1047600" cy="1314720"/>
          </a:xfrm>
          <a:prstGeom prst="rect">
            <a:avLst/>
          </a:prstGeom>
          <a:ln w="0">
            <a:noFill/>
          </a:ln>
        </p:spPr>
      </p:pic>
      <p:sp>
        <p:nvSpPr>
          <p:cNvPr id="60" name="Line 10"/>
          <p:cNvSpPr/>
          <p:nvPr/>
        </p:nvSpPr>
        <p:spPr>
          <a:xfrm flipH="1">
            <a:off x="262728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50560" y="3500280"/>
            <a:ext cx="25923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Хор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780000" y="3500280"/>
            <a:ext cx="143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хор</a:t>
            </a:r>
            <a:r>
              <a:rPr b="0" lang="ru-RU" sz="3200" spc="-1" strike="noStrike">
                <a:solidFill>
                  <a:srgbClr val="0099ff"/>
                </a:solidFill>
                <a:latin typeface="Arial"/>
              </a:rPr>
              <a:t>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09548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19"/>
          <p:cNvSpPr/>
          <p:nvPr/>
        </p:nvSpPr>
        <p:spPr>
          <a:xfrm flipH="1">
            <a:off x="1113840" y="3429000"/>
            <a:ext cx="455400" cy="228600"/>
          </a:xfrm>
          <a:custGeom>
            <a:avLst/>
            <a:gdLst/>
            <a:ahLst/>
            <a:rect l="l" t="t" r="r" b="b"/>
            <a:pathLst>
              <a:path fill="none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</a:path>
              <a:path stroke="0" w="43159" h="21600">
                <a:moveTo>
                  <a:pt x="-1" y="20274"/>
                </a:moveTo>
                <a:cubicBezTo>
                  <a:pt x="699" y="8881"/>
                  <a:pt x="10144" y="-1"/>
                  <a:pt x="21559" y="0"/>
                </a:cubicBezTo>
                <a:cubicBezTo>
                  <a:pt x="33488" y="0"/>
                  <a:pt x="43159" y="9670"/>
                  <a:pt x="43159" y="21600"/>
                </a:cubicBezTo>
                <a:lnTo>
                  <a:pt x="21559" y="21600"/>
                </a:lnTo>
                <a:lnTo>
                  <a:pt x="-1" y="20274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rc 20"/>
          <p:cNvSpPr/>
          <p:nvPr/>
        </p:nvSpPr>
        <p:spPr>
          <a:xfrm flipH="1">
            <a:off x="3995640" y="3357720"/>
            <a:ext cx="433440" cy="228600"/>
          </a:xfrm>
          <a:custGeom>
            <a:avLst/>
            <a:gdLst/>
            <a:ahLst/>
            <a:rect l="l" t="t" r="r" b="b"/>
            <a:pathLst>
              <a:path fill="none" w="42671" h="21600">
                <a:moveTo>
                  <a:pt x="-1" y="16848"/>
                </a:moveTo>
                <a:cubicBezTo>
                  <a:pt x="2221" y="6997"/>
                  <a:pt x="10972" y="-1"/>
                  <a:pt x="21071" y="0"/>
                </a:cubicBezTo>
                <a:cubicBezTo>
                  <a:pt x="33000" y="0"/>
                  <a:pt x="42671" y="9670"/>
                  <a:pt x="42671" y="21600"/>
                </a:cubicBezTo>
              </a:path>
              <a:path stroke="0" w="42671" h="21600">
                <a:moveTo>
                  <a:pt x="-1" y="16848"/>
                </a:moveTo>
                <a:cubicBezTo>
                  <a:pt x="2221" y="6997"/>
                  <a:pt x="10972" y="-1"/>
                  <a:pt x="21071" y="0"/>
                </a:cubicBezTo>
                <a:cubicBezTo>
                  <a:pt x="33000" y="0"/>
                  <a:pt x="42671" y="9670"/>
                  <a:pt x="42671" y="21600"/>
                </a:cubicBezTo>
                <a:lnTo>
                  <a:pt x="21071" y="21600"/>
                </a:lnTo>
                <a:lnTo>
                  <a:pt x="-1" y="1684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 flipV="1">
            <a:off x="1692360" y="328464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1908000" y="328464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"/>
          <p:cNvSpPr/>
          <p:nvPr/>
        </p:nvSpPr>
        <p:spPr>
          <a:xfrm flipV="1">
            <a:off x="4500720" y="314172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4"/>
          <p:cNvSpPr/>
          <p:nvPr/>
        </p:nvSpPr>
        <p:spPr>
          <a:xfrm>
            <a:off x="4716360" y="3141720"/>
            <a:ext cx="228600" cy="458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5"/>
          <p:cNvSpPr/>
          <p:nvPr/>
        </p:nvSpPr>
        <p:spPr>
          <a:xfrm flipH="1">
            <a:off x="5363640" y="3860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0" y="1484280"/>
            <a:ext cx="9144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«антропо–» – «человек» + «онима–» – «имя»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АНТРОПОНИ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0" y="1484280"/>
            <a:ext cx="91440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Слово «фамилия» – латинского происхождения. У древних римлян оно относилось не к супругам и детям, а только к рабам. </a:t>
            </a:r>
            <a:r>
              <a:rPr b="1" lang="ru-RU" sz="2000" spc="-1" strike="noStrike" u="sng">
                <a:solidFill>
                  <a:srgbClr val="009900"/>
                </a:solidFill>
                <a:uFillTx/>
                <a:latin typeface="Arial"/>
              </a:rPr>
              <a:t>«Familia»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– это принадлежащие одному человеку ра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римляне"/>
          <p:cNvPicPr/>
          <p:nvPr/>
        </p:nvPicPr>
        <p:blipFill>
          <a:blip r:embed="rId2"/>
          <a:stretch/>
        </p:blipFill>
        <p:spPr>
          <a:xfrm>
            <a:off x="3059280" y="3429000"/>
            <a:ext cx="2952720" cy="2664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0" y="148428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9900"/>
                </a:solidFill>
                <a:uFillTx/>
                <a:latin typeface="Arial"/>
              </a:rPr>
              <a:t>«наследственное семейное именование, прибавляемое к личному имени»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395280" y="549360"/>
            <a:ext cx="8353440" cy="1800000"/>
          </a:xfrm>
          <a:prstGeom prst="downArrowCallout">
            <a:avLst>
              <a:gd name="adj1" fmla="val -98737"/>
              <a:gd name="adj2" fmla="val 116020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211640" y="4149720"/>
            <a:ext cx="216000" cy="142920"/>
          </a:xfrm>
          <a:custGeom>
            <a:avLst/>
            <a:gdLst>
              <a:gd name="textAreaLeft" fmla="*/ 0 w 216000"/>
              <a:gd name="textAreaRight" fmla="*/ 61200 w 216000"/>
              <a:gd name="textAreaTop" fmla="*/ 5508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европа"/>
          <p:cNvPicPr/>
          <p:nvPr/>
        </p:nvPicPr>
        <p:blipFill>
          <a:blip r:embed="rId2"/>
          <a:stretch/>
        </p:blipFill>
        <p:spPr>
          <a:xfrm>
            <a:off x="1258920" y="3284640"/>
            <a:ext cx="6553080" cy="3573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1"/>
          <p:cNvSpPr/>
          <p:nvPr/>
        </p:nvSpPr>
        <p:spPr>
          <a:xfrm>
            <a:off x="3995640" y="5445000"/>
            <a:ext cx="1152720" cy="719280"/>
          </a:xfrm>
          <a:custGeom>
            <a:avLst/>
            <a:gdLst>
              <a:gd name="textAreaLeft" fmla="*/ 0 w 1152720"/>
              <a:gd name="textAreaRight" fmla="*/ 326160 w 1152720"/>
              <a:gd name="textAreaTop" fmla="*/ 2768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5076720" y="4797360"/>
            <a:ext cx="1943280" cy="719280"/>
          </a:xfrm>
          <a:custGeom>
            <a:avLst/>
            <a:gdLst>
              <a:gd name="textAreaLeft" fmla="*/ 0 w 1943280"/>
              <a:gd name="textAreaRight" fmla="*/ 549720 w 1943280"/>
              <a:gd name="textAreaTop" fmla="*/ 2768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0" y="0"/>
            <a:ext cx="9144000" cy="37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ОЯВЛЕНИЕ ФАМИЛИЙ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до 13 века – прозвища, ремесло, отчество, дед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411336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30- е годы 20 века – у каждого человека есть фами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227664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3 век – первые фамилии в Великом Новгород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270828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8 век – появление паспор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16000" y="292428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19 век – массовое появление фамил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0" y="333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толпа"/>
          <p:cNvPicPr/>
          <p:nvPr/>
        </p:nvPicPr>
        <p:blipFill>
          <a:blip r:embed="rId2"/>
          <a:stretch/>
        </p:blipFill>
        <p:spPr>
          <a:xfrm>
            <a:off x="0" y="0"/>
            <a:ext cx="3171960" cy="42861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/>
          <p:cNvSpPr/>
          <p:nvPr/>
        </p:nvSpPr>
        <p:spPr>
          <a:xfrm>
            <a:off x="3132000" y="0"/>
            <a:ext cx="5904000" cy="1197000"/>
          </a:xfrm>
          <a:prstGeom prst="downArrowCallout">
            <a:avLst>
              <a:gd name="adj1" fmla="val 123320"/>
              <a:gd name="adj2" fmla="val 12330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Чей? Чьи вы буд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132000" y="5943600"/>
            <a:ext cx="6012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Зая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ц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Зай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3132000" y="2276640"/>
            <a:ext cx="6012000" cy="1296720"/>
          </a:xfrm>
          <a:prstGeom prst="downArrowCallout">
            <a:avLst>
              <a:gd name="adj1" fmla="val 115918"/>
              <a:gd name="adj2" fmla="val 115908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Михаи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Михай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л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132000" y="3573360"/>
            <a:ext cx="6012000" cy="1150920"/>
          </a:xfrm>
          <a:prstGeom prst="downArrowCallout">
            <a:avLst>
              <a:gd name="adj1" fmla="val 130603"/>
              <a:gd name="adj2" fmla="val 130591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й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ть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3132000" y="4724280"/>
            <a:ext cx="6012000" cy="1225800"/>
          </a:xfrm>
          <a:prstGeom prst="downArrowCallout">
            <a:avLst>
              <a:gd name="adj1" fmla="val 122625"/>
              <a:gd name="adj2" fmla="val 122614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а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Ерём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3132000" y="1197000"/>
            <a:ext cx="6012000" cy="1079640"/>
          </a:xfrm>
          <a:prstGeom prst="downArrowCallout">
            <a:avLst>
              <a:gd name="adj1" fmla="val 139226"/>
              <a:gd name="adj2" fmla="val 13921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 - 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Игна</a:t>
            </a:r>
            <a:r>
              <a:rPr b="1" lang="ru-RU" sz="3200" spc="-1" strike="noStrike" u="sng">
                <a:solidFill>
                  <a:srgbClr val="0099ff"/>
                </a:solidFill>
                <a:uFillTx/>
                <a:latin typeface="Arial"/>
              </a:rPr>
              <a:t>т</a:t>
            </a:r>
            <a:r>
              <a:rPr b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2"/>
          <p:cNvSpPr/>
          <p:nvPr/>
        </p:nvSpPr>
        <p:spPr>
          <a:xfrm flipV="1">
            <a:off x="7308720" y="1196640"/>
            <a:ext cx="146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3"/>
          <p:cNvSpPr/>
          <p:nvPr/>
        </p:nvSpPr>
        <p:spPr>
          <a:xfrm flipV="1">
            <a:off x="7667640" y="2349360"/>
            <a:ext cx="14616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V="1">
            <a:off x="7667640" y="3644640"/>
            <a:ext cx="14616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 flipV="1">
            <a:off x="7308720" y="4724280"/>
            <a:ext cx="14616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V="1">
            <a:off x="7093080" y="6021360"/>
            <a:ext cx="14580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745164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7812000" y="2349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7812000" y="36450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6"/>
          <p:cNvSpPr/>
          <p:nvPr/>
        </p:nvSpPr>
        <p:spPr>
          <a:xfrm>
            <a:off x="7451640" y="4724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7236000" y="602136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мерцающ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0" y="1413000"/>
            <a:ext cx="9144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63300"/>
                </a:solidFill>
                <a:uFillTx/>
                <a:latin typeface="Arial"/>
              </a:rPr>
              <a:t>это разновидность языка, которая употребляется как средство общения между людьми, связанными между собой одной территор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россия"/>
          <p:cNvPicPr/>
          <p:nvPr/>
        </p:nvPicPr>
        <p:blipFill>
          <a:blip r:embed="rId2"/>
          <a:stretch/>
        </p:blipFill>
        <p:spPr>
          <a:xfrm>
            <a:off x="324000" y="2421000"/>
            <a:ext cx="8569080" cy="42480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/>
          <p:cNvSpPr/>
          <p:nvPr/>
        </p:nvSpPr>
        <p:spPr>
          <a:xfrm>
            <a:off x="539640" y="0"/>
            <a:ext cx="8353440" cy="1413000"/>
          </a:xfrm>
          <a:prstGeom prst="downArrowCallout">
            <a:avLst>
              <a:gd name="adj1" fmla="val -125780"/>
              <a:gd name="adj2" fmla="val 147796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ДИАЛ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24000" y="2421000"/>
            <a:ext cx="2663640" cy="609480"/>
          </a:xfrm>
          <a:prstGeom prst="wedgeRectCallout">
            <a:avLst>
              <a:gd name="adj1" fmla="val -47856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ЧЕЙ СЫ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1042920" y="335772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ов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 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835280" y="4005360"/>
            <a:ext cx="1871640" cy="60948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а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 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3132000" y="3213000"/>
            <a:ext cx="1871640" cy="609840"/>
          </a:xfrm>
          <a:prstGeom prst="wedgeRectCallout">
            <a:avLst>
              <a:gd name="adj1" fmla="val -46944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ff"/>
                </a:solidFill>
                <a:uFillTx/>
                <a:latin typeface="Arial"/>
              </a:rPr>
              <a:t>Кузнецова </a:t>
            </a:r>
            <a:r>
              <a:rPr b="0" lang="ru-RU" sz="2000" spc="-1" strike="noStrike">
                <a:solidFill>
                  <a:srgbClr val="0099ff"/>
                </a:solidFill>
                <a:latin typeface="Arial"/>
              </a:rPr>
              <a:t>СЫ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4:17:27Z</dcterms:created>
  <dc:creator>User</dc:creator>
  <dc:description/>
  <dc:language>en-US</dc:language>
  <cp:lastModifiedBy>LEGION2</cp:lastModifiedBy>
  <dcterms:modified xsi:type="dcterms:W3CDTF">2015-04-24T08:57:34Z</dcterms:modified>
  <cp:revision>30</cp:revision>
  <dc:subject/>
  <dc:title>«Как появились фамилии?»</dc:title>
</cp:coreProperties>
</file>